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B8255-6E1A-4292-BD42-9F3A05854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9B921-41D4-42FD-A324-C7EEAD7E8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E314D-8277-4201-8546-3D816B28C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5C550-EFA3-4673-B6A7-F3B125EDD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34973-C6CF-4940-AB9A-8C4985884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B24EB-93B4-4230-9B6A-0B3F410CB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42902-14D3-48B9-B328-0684D2D56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6039C-A06F-47E6-A273-13EE8E61E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4EC27-D6BE-4487-BEC0-A1B198A6C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1A8AC-0DB9-4401-AE45-CE34C2E09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1AAEE-2313-4C17-96C4-880AAB55A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B0532-5A21-4806-A362-6995CBC2D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EAA6F-869C-4799-8417-4C3EBF77D7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http://rds.yahoo.com/_ylt=A0PDoX8XaydNHC4AEd.jzbkF/SIG=12t5a2gvn/EXP=1294515351/**http%3a/blog.educastur.es/musicaencanal/files/2007/12/pentagrama2-full.jpg"/>
          <p:cNvPicPr/>
          <p:nvPr/>
        </p:nvPicPr>
        <p:blipFill>
          <a:blip r:embed="rId1"/>
          <a:stretch/>
        </p:blipFill>
        <p:spPr>
          <a:xfrm>
            <a:off x="-19080" y="-6480"/>
            <a:ext cx="9175680" cy="68882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C:\Users\Blanca\Documents\My Documents\MEDDEscritorio\CD Cumbre MEDD 2010 Costa Rica\Copy of Carpeta Trabajo MEDD 2010\LOGOS MEDD\Logo ED Solo.jpg"/>
          <p:cNvPicPr/>
          <p:nvPr/>
        </p:nvPicPr>
        <p:blipFill>
          <a:blip r:embed="rId2"/>
          <a:stretch/>
        </p:blipFill>
        <p:spPr>
          <a:xfrm>
            <a:off x="63360" y="533520"/>
            <a:ext cx="1854360" cy="18158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2"/>
          <p:cNvSpPr/>
          <p:nvPr/>
        </p:nvSpPr>
        <p:spPr>
          <a:xfrm>
            <a:off x="990720" y="1066680"/>
            <a:ext cx="81532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ff0000"/>
                </a:solidFill>
                <a:latin typeface="Britannic Bold"/>
                <a:ea typeface="Gisha"/>
              </a:rPr>
              <a:t>Hacemos Conexión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http://rds.yahoo.com/_ylt=A0PDoX8XaydNHC4AEd.jzbkF/SIG=12t5a2gvn/EXP=1294515351/**http%3a/blog.educastur.es/musicaencanal/files/2007/12/pentagrama2-full.jpg"/>
          <p:cNvPicPr/>
          <p:nvPr/>
        </p:nvPicPr>
        <p:blipFill>
          <a:blip r:embed="rId1"/>
          <a:stretch/>
        </p:blipFill>
        <p:spPr>
          <a:xfrm>
            <a:off x="-19080" y="-6480"/>
            <a:ext cx="9175680" cy="68882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" descr="C:\Users\Blanca\Documents\My Documents\MEDDEscritorio\CD Cumbre MEDD 2010 Costa Rica\Copy of Carpeta Trabajo MEDD 2010\LOGOS MEDD\Logo ED Solo.jpg"/>
          <p:cNvPicPr/>
          <p:nvPr/>
        </p:nvPicPr>
        <p:blipFill>
          <a:blip r:embed="rId2"/>
          <a:stretch/>
        </p:blipFill>
        <p:spPr>
          <a:xfrm>
            <a:off x="63360" y="533520"/>
            <a:ext cx="1854360" cy="181584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2"/>
          <p:cNvSpPr/>
          <p:nvPr/>
        </p:nvSpPr>
        <p:spPr>
          <a:xfrm>
            <a:off x="990720" y="0"/>
            <a:ext cx="8153280" cy="633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100" spc="-1" strike="noStrike">
                <a:solidFill>
                  <a:srgbClr val="000000"/>
                </a:solidFill>
                <a:latin typeface="Candara"/>
                <a:ea typeface="Gisha"/>
              </a:rPr>
              <a:t>Dios en su amor nos mostró cual pastor,</a:t>
            </a:r>
            <a:br>
              <a:rPr sz="3100"/>
            </a:br>
            <a:r>
              <a:rPr b="1" lang="es-ES" sz="3100" spc="-1" strike="noStrike">
                <a:solidFill>
                  <a:srgbClr val="000000"/>
                </a:solidFill>
                <a:latin typeface="Candara"/>
                <a:ea typeface="Gisha"/>
              </a:rPr>
              <a:t>en Cristo  Él nos di</a:t>
            </a:r>
            <a:r>
              <a:rPr b="1" lang="es-ES" sz="3100" spc="-1" strike="noStrike">
                <a:solidFill>
                  <a:srgbClr val="000000"/>
                </a:solidFill>
                <a:latin typeface="Candara"/>
                <a:ea typeface="ＭＳ Ｐゴシック"/>
              </a:rPr>
              <a:t>o la salvación</a:t>
            </a:r>
            <a:br>
              <a:rPr sz="3100"/>
            </a:br>
            <a:r>
              <a:rPr b="1" lang="es-ES" sz="3100" spc="-1" strike="noStrike">
                <a:solidFill>
                  <a:srgbClr val="000000"/>
                </a:solidFill>
                <a:latin typeface="Candara"/>
                <a:ea typeface="Gisha"/>
              </a:rPr>
              <a:t>y con su sangre el hijo el precio pag</a:t>
            </a:r>
            <a:r>
              <a:rPr b="1" lang="es-ES" sz="3100" spc="-1" strike="noStrike">
                <a:solidFill>
                  <a:srgbClr val="000000"/>
                </a:solidFill>
                <a:latin typeface="Candara"/>
                <a:ea typeface="ＭＳ Ｐゴシック"/>
              </a:rPr>
              <a:t>ó </a:t>
            </a:r>
            <a:br>
              <a:rPr sz="3100"/>
            </a:br>
            <a:r>
              <a:rPr b="1" lang="es-ES" sz="3100" spc="-1" strike="noStrike">
                <a:solidFill>
                  <a:srgbClr val="000000"/>
                </a:solidFill>
                <a:latin typeface="Candara"/>
                <a:ea typeface="ＭＳ Ｐゴシック"/>
              </a:rPr>
              <a:t>para hacer con el Padre una conexión.</a:t>
            </a:r>
            <a:br>
              <a:rPr sz="3100"/>
            </a:br>
            <a:br>
              <a:rPr sz="3100"/>
            </a:br>
            <a:r>
              <a:rPr b="1" lang="es-ES" sz="31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Coro</a:t>
            </a:r>
            <a:br>
              <a:rPr sz="3100"/>
            </a:br>
            <a:r>
              <a:rPr b="1" lang="es-ES" sz="31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Un enlace de amor y verdad</a:t>
            </a:r>
            <a:br>
              <a:rPr sz="3100"/>
            </a:br>
            <a:r>
              <a:rPr b="1" lang="es-ES" sz="31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desde el Padre y su santidad</a:t>
            </a:r>
            <a:br>
              <a:rPr sz="3100"/>
            </a:br>
            <a:r>
              <a:rPr b="1" lang="es-ES" sz="31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 y unidos en Cristo, la eterna verdad</a:t>
            </a:r>
            <a:br>
              <a:rPr sz="3100"/>
            </a:br>
            <a:r>
              <a:rPr b="1" lang="es-ES" sz="31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hacemos conexión con la humanidad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C:\Users\Blanca\Documents\My Documents\MEDDEscritorio\CD Cumbre MEDD 2010 Costa Rica\Copy of Carpeta Trabajo MEDD 2010\LOGOS MEDD\Logo ED Solo.jpg"/>
          <p:cNvPicPr/>
          <p:nvPr/>
        </p:nvPicPr>
        <p:blipFill>
          <a:blip r:embed="rId1"/>
          <a:stretch/>
        </p:blipFill>
        <p:spPr>
          <a:xfrm>
            <a:off x="7634160" y="5410080"/>
            <a:ext cx="1478160" cy="14479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" descr="http://rds.yahoo.com/_ylt=A0PDoX8XaydNHC4AEd.jzbkF/SIG=12t5a2gvn/EXP=1294515351/**http%3a/blog.educastur.es/musicaencanal/files/2007/12/pentagrama2-full.jpg"/>
          <p:cNvPicPr/>
          <p:nvPr/>
        </p:nvPicPr>
        <p:blipFill>
          <a:blip r:embed="rId2"/>
          <a:stretch/>
        </p:blipFill>
        <p:spPr>
          <a:xfrm>
            <a:off x="-19080" y="-6480"/>
            <a:ext cx="9175680" cy="68882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2"/>
          <p:cNvSpPr/>
          <p:nvPr/>
        </p:nvSpPr>
        <p:spPr>
          <a:xfrm>
            <a:off x="380880" y="189000"/>
            <a:ext cx="8305920" cy="64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500" spc="-1" strike="noStrike">
                <a:solidFill>
                  <a:srgbClr val="10253f"/>
                </a:solidFill>
                <a:latin typeface="Candara"/>
                <a:ea typeface="ＭＳ Ｐゴシック"/>
              </a:rPr>
              <a:t>Danos Jesús de tu perfecto amor</a:t>
            </a:r>
            <a:br>
              <a:rPr sz="3500"/>
            </a:br>
            <a:r>
              <a:rPr b="1" lang="es-ES" sz="3500" spc="-1" strike="noStrike">
                <a:solidFill>
                  <a:srgbClr val="10253f"/>
                </a:solidFill>
                <a:latin typeface="Candara"/>
                <a:ea typeface="ＭＳ Ｐゴシック"/>
              </a:rPr>
              <a:t> haz con nosotros esa conexión</a:t>
            </a:r>
            <a:br>
              <a:rPr sz="3500"/>
            </a:br>
            <a:r>
              <a:rPr b="1" lang="es-ES" sz="3500" spc="-1" strike="noStrike">
                <a:solidFill>
                  <a:srgbClr val="10253f"/>
                </a:solidFill>
                <a:latin typeface="Candara"/>
                <a:ea typeface="ＭＳ Ｐゴシック"/>
              </a:rPr>
              <a:t> que tu Palabra ponga en nosotros fervor</a:t>
            </a:r>
            <a:br>
              <a:rPr sz="3500"/>
            </a:br>
            <a:r>
              <a:rPr b="1" lang="es-ES" sz="3500" spc="-1" strike="noStrike">
                <a:solidFill>
                  <a:srgbClr val="10253f"/>
                </a:solidFill>
                <a:latin typeface="Candara"/>
                <a:ea typeface="ＭＳ Ｐゴシック"/>
              </a:rPr>
              <a:t> y al perdido alcancemos llenos de tu unción.</a:t>
            </a:r>
            <a:br>
              <a:rPr sz="3500"/>
            </a:br>
            <a:br>
              <a:rPr sz="3500"/>
            </a:br>
            <a:r>
              <a:rPr b="1" lang="es-ES" sz="3000" spc="-1" strike="noStrike">
                <a:solidFill>
                  <a:srgbClr val="c0504d"/>
                </a:solidFill>
                <a:latin typeface="Candara"/>
                <a:ea typeface="ＭＳ Ｐゴシック"/>
              </a:rPr>
              <a:t>Coro</a:t>
            </a:r>
            <a:br>
              <a:rPr sz="3000"/>
            </a:br>
            <a:r>
              <a:rPr b="1" lang="es-ES" sz="30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Un enlace de amor y verdad</a:t>
            </a:r>
            <a:br>
              <a:rPr sz="3000"/>
            </a:br>
            <a:r>
              <a:rPr b="1" lang="es-ES" sz="30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 desde el Padre y su santida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 </a:t>
            </a:r>
            <a:r>
              <a:rPr b="1" lang="es-ES" sz="30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y unidos en Cristo, la eterna verdad</a:t>
            </a:r>
            <a:br>
              <a:rPr sz="3000"/>
            </a:br>
            <a:r>
              <a:rPr b="1" lang="es-ES" sz="30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 hacemos conexión con la humanidad.</a:t>
            </a:r>
            <a:br>
              <a:rPr sz="3000"/>
            </a:br>
            <a:br>
              <a:rPr sz="3000"/>
            </a:br>
            <a:r>
              <a:rPr b="1" lang="es-ES" sz="3000" spc="-1" strike="noStrike">
                <a:solidFill>
                  <a:srgbClr val="ff0000"/>
                </a:solidFill>
                <a:latin typeface="Candara"/>
                <a:ea typeface="Gisha"/>
              </a:rPr>
              <a:t>Hacemos conexi</a:t>
            </a:r>
            <a:r>
              <a:rPr b="1" lang="es-ES" sz="30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ón con la humanida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 </a:t>
            </a:r>
            <a:r>
              <a:rPr b="1" lang="es-ES" sz="30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con la humanida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7T19:03:58Z</dcterms:created>
  <dc:creator>Blanca</dc:creator>
  <dc:description/>
  <dc:language>en-US</dc:language>
  <cp:lastModifiedBy>Ramon </cp:lastModifiedBy>
  <dcterms:modified xsi:type="dcterms:W3CDTF">2011-01-07T23:14:08Z</dcterms:modified>
  <cp:revision>9</cp:revision>
  <dc:subject/>
  <dc:title>Dios en su amor nos mostró cual pastor, en Cristo  Él nos dio la salvación y con su sangre el hijo el precio pagó  para hacer con el Padre una conexión. Coro Un enlace de amor y verdad desde el Padre y su santidad  y unidos en Cristo, la eterna verdad hacemos conexión con la humanidad.</dc:title>
</cp:coreProperties>
</file>